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BE3-5D67-498B-A8FC-939D36A3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401-C2AD-49DD-A83E-10FF1F71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939-C066-40B2-90EC-44AE85B9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633-D92C-42D6-BFDE-0BC23A93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0A0-8859-499D-86D9-1C10D65E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2EC-A407-4093-BB8B-1D5C4E61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6D1-BB5E-4B85-ADC5-72C87464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72E-3279-4E9A-AF16-31448449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E29-C72D-42D3-B658-A05BE38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02B-A91A-49D3-BEB3-90442CB6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841-05DF-479B-B98E-05B87F0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324-C7C0-4482-A031-A20AA656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12F2-316F-47E3-9FC3-875D9680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7086600" cy="6324480"/>
          </a:xfrm>
          <a:prstGeom prst="flowChart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6095880"/>
            <a:ext cx="0" cy="12648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467480" y="3429000"/>
            <a:ext cx="166114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914400" y="0"/>
            <a:ext cx="685800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914400" y="0"/>
            <a:ext cx="6781680" cy="678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1219320"/>
            <a:ext cx="9677520" cy="3975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895480" y="0"/>
            <a:ext cx="289584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0" y="1709640"/>
            <a:ext cx="9144000" cy="3619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55960" y="0"/>
            <a:ext cx="2774880" cy="6858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4200">
            <a:off x="5257440" y="358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ots ini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733600">
            <a:off x="5867640" y="266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an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110400">
            <a:off x="4306320" y="1180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mots- v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207000">
            <a:off x="4608720" y="5218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-has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90400">
            <a:off x="5333400" y="457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1434200">
            <a:off x="685440" y="2740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aî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0213200">
            <a:off x="380520" y="380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2400">
            <a:off x="5105880" y="1752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05800">
            <a:off x="2128680" y="50288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ase-m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4247000">
            <a:off x="2267640" y="12348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815800">
            <a:off x="1065960" y="456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yram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3200">
            <a:off x="1143360" y="2054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6177600">
            <a:off x="2683080" y="5007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ot le plu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5710400">
            <a:off x="2820600" y="114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4875600">
            <a:off x="3643920" y="5114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rois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550400">
            <a:off x="3430440" y="1216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noms prop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808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84280" cy="171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29852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633680" cy="173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12556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21:46:40Z</dcterms:created>
  <dc:creator>Marianne NEY</dc:creator>
  <dc:description/>
  <dc:language>en-US</dc:language>
  <cp:lastModifiedBy>Marianne NEY</cp:lastModifiedBy>
  <cp:lastPrinted>2002-01-04T16:53:17Z</cp:lastPrinted>
  <dcterms:modified xsi:type="dcterms:W3CDTF">2002-01-04T17:04:43Z</dcterms:modified>
  <cp:revision>7</cp:revision>
  <dc:subject/>
  <dc:title>Aucun titre de diapositive</dc:title>
</cp:coreProperties>
</file>